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7DE3-D1C9-41E3-A62B-6EFA77ACA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57C1-762D-4C7F-8EEA-A273C7B36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55B1-38AA-45D8-80D0-7F52B27CF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FFC9-6EE3-4CEA-AD37-9C2344CA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704F-5FC7-4537-B37B-132CBB5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6101-D2B3-44AF-AA5C-AEFA4DC5F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F7956-7882-4E5C-A13B-DBB5E8493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8D839-8F47-4D74-A26E-88AC2AA8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81401-4F82-4061-8D11-ABDAFF22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34CFF-B9C3-4B24-9B72-665B41E4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E40FC-C653-41DF-8C85-722AA306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EA516-64FF-4DF0-8D41-071FD7DF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6C251-3ABC-4709-9859-7A783C53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4CE9-7C32-4469-BD65-623C265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73B7D-0186-45B7-82CA-CD831E9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A39D9-B3E0-4B33-AF01-EDC7E83C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EA4ED-83E6-430B-856E-F6BF0BF8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3EB5D-E672-43B1-8079-F13BC4C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6097F-6A58-4C98-B870-379F04347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538F-81C5-4DE5-A018-F737B2F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CF31-11FE-4151-B09B-1CCE6D99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295F-CEE9-4A2A-A5C0-01DE23EC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5C4E-EA55-4FF9-A1C4-873118D8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5FD0-E8AC-4610-B12B-A9BBC702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3010-945D-4F62-8587-BE93B9D4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547F-94CC-442A-8804-C142E214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17C-9845-43D3-83FC-5CBA739F60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33E8-CAA2-4709-8075-9C03BC9D88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0" r="18374" b="0"/>
          <a:stretch/>
        </p:blipFill>
        <p:spPr>
          <a:xfrm>
            <a:off x="214200" y="704880"/>
            <a:ext cx="8929800" cy="615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 rot="16200000">
            <a:off x="95040" y="680400"/>
            <a:ext cx="5605560" cy="579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17440" y="5516640"/>
            <a:ext cx="1069920" cy="74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179280" y="1717560"/>
            <a:ext cx="7274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Financial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Month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ir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ef Finan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iginal financial target for 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927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us’ Sustainability funding recei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509k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financial targ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418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"/>
          <p:cNvSpPr/>
          <p:nvPr/>
        </p:nvSpPr>
        <p:spPr>
          <a:xfrm>
            <a:off x="6545160" y="26370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-Point Star 5"/>
          <p:cNvSpPr/>
          <p:nvPr/>
        </p:nvSpPr>
        <p:spPr>
          <a:xfrm>
            <a:off x="7956720" y="3500280"/>
            <a:ext cx="287280" cy="231840"/>
          </a:xfrm>
          <a:custGeom>
            <a:avLst/>
            <a:gdLst/>
            <a:ahLst/>
            <a:rect l="l" t="t" r="r" b="b"/>
            <a:pathLst>
              <a:path w="288032" h="231867">
                <a:moveTo>
                  <a:pt x="0" y="88565"/>
                </a:moveTo>
                <a:lnTo>
                  <a:pt x="110019" y="88566"/>
                </a:lnTo>
                <a:lnTo>
                  <a:pt x="144016" y="0"/>
                </a:lnTo>
                <a:lnTo>
                  <a:pt x="178013" y="88566"/>
                </a:lnTo>
                <a:lnTo>
                  <a:pt x="288032" y="88565"/>
                </a:lnTo>
                <a:lnTo>
                  <a:pt x="199024" y="143301"/>
                </a:lnTo>
                <a:lnTo>
                  <a:pt x="233023" y="231866"/>
                </a:lnTo>
                <a:lnTo>
                  <a:pt x="144016" y="177129"/>
                </a:lnTo>
                <a:lnTo>
                  <a:pt x="55009" y="231866"/>
                </a:lnTo>
                <a:lnTo>
                  <a:pt x="89008" y="143301"/>
                </a:lnTo>
                <a:lnTo>
                  <a:pt x="0" y="885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717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continued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1,183k sur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ical adjustments ‘added back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1,575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against targ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392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we hit our tar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5"/>
          <p:cNvSpPr/>
          <p:nvPr/>
        </p:nvSpPr>
        <p:spPr>
          <a:xfrm>
            <a:off x="6770520" y="3435480"/>
            <a:ext cx="346320" cy="314280"/>
          </a:xfrm>
          <a:custGeom>
            <a:avLst/>
            <a:gdLst/>
            <a:ahLst/>
            <a:rect l="l" t="t" r="r" b="b"/>
            <a:pathLst>
              <a:path w="344812" h="313349">
                <a:moveTo>
                  <a:pt x="0" y="119688"/>
                </a:moveTo>
                <a:lnTo>
                  <a:pt x="131707" y="119689"/>
                </a:lnTo>
                <a:lnTo>
                  <a:pt x="172406" y="0"/>
                </a:lnTo>
                <a:lnTo>
                  <a:pt x="213105" y="119689"/>
                </a:lnTo>
                <a:lnTo>
                  <a:pt x="344812" y="119688"/>
                </a:lnTo>
                <a:lnTo>
                  <a:pt x="238258" y="193660"/>
                </a:lnTo>
                <a:lnTo>
                  <a:pt x="278959" y="313348"/>
                </a:lnTo>
                <a:lnTo>
                  <a:pt x="172406" y="239376"/>
                </a:lnTo>
                <a:lnTo>
                  <a:pt x="65853" y="313348"/>
                </a:lnTo>
                <a:lnTo>
                  <a:pt x="106554" y="193660"/>
                </a:lnTo>
                <a:lnTo>
                  <a:pt x="0" y="1196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2462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1741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15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Total Target m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y costs £1.59m compared to £2.2m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Improvement Programme - £2.5m saved against £3.7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spend £5.9m spend in line with Trust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11040" y="234792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55680" y="4653000"/>
            <a:ext cx="64764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255600" y="3716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 Louise</dc:creator>
  <dc:description/>
  <dc:language>en-US</dc:language>
  <cp:lastModifiedBy>Wilson Claire (RBQ)</cp:lastModifiedBy>
  <cp:lastPrinted>2014-02-19T14:11:01Z</cp:lastPrinted>
  <dcterms:modified xsi:type="dcterms:W3CDTF">2017-05-31T17:36:27Z</dcterms:modified>
  <cp:revision>264</cp:revision>
  <dc:subject/>
  <dc:title>Chief Executive’s  Team Brief or longer heading</dc:title>
</cp:coreProperties>
</file>